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applause.wav" ContentType="audio/x-wav"/>
  <Override PartName="/ppt/media/image6.jpeg" ContentType="image/jpeg"/>
  <Override PartName="/ppt/media/image10.png" ContentType="image/png"/>
  <Override PartName="/ppt/media/camera.wav" ContentType="audio/x-wav"/>
  <Override PartName="/ppt/media/image2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bomb.wav" ContentType="audio/x-wav"/>
  <Override PartName="/ppt/media/image24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EC08-2DD4-45DE-A7BF-9EBA2B008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89BD-6BB7-41CB-8A0F-E2169311F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825-5423-4F1D-9B97-E5463B20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0E6-C704-4980-9F51-AFC74BCA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83B72-D340-49A5-9928-8A25C1F3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60D01-556E-4BFF-AFBB-10F533D8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EBF45-6BA9-412C-A36E-78D9B599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2A41E-5D18-4FD2-B6B1-D95032CD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05736-729D-4779-B1C9-FADC50D4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7D6D1-7608-4801-9CF0-07527D68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94818-1E6F-4CA2-A907-CCA4E6A4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5EB15-A4BF-4EE3-BFE2-CD4B276C8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85E6D-484D-47D8-8F41-BDB3BC8D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05A-647E-4B64-BCBC-D5E103FF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AEB-B026-4B44-BF4F-9723B34F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126D-5E32-4743-8D4E-3DAC37AC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73B4-A8D9-40EB-91AC-A66DB5B9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ECCC-4A5B-4F40-9147-8803E97A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AE77-C809-46E8-980C-248071C4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3D67-7FEF-4EE3-8AE5-DFE1FD92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E47B-5307-4C3D-9F0C-56CF761D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9A3D-AEC6-4737-904D-761AA3D7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DD71-2DEA-4117-A045-63E7048D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759F-BC09-4B02-A9C5-2277D418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80CF-F636-4007-9BE8-AE112E9A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C4F5-72A4-4456-B229-6088AD7C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F7B1-9AB7-4967-8463-1EAFEC64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A965-DA40-43D4-AF41-4406857E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145D1-0E13-4DFB-838F-559D8E0F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D26F6-97F5-4A77-BA21-8D9458AB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AA151-EBD7-46C1-92C4-F2658E56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C2DF0-4E4A-43F3-88F1-67C3E3A6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EE391-5178-4624-8027-41948DBC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62A3-F82E-4BEB-9D45-ACE048FF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D4D3B-A636-48CF-82B5-F4C678E7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7F05A-477E-4536-A2BE-C027A26B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99C15-0698-49B4-ACE7-075865FD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092DC-3CED-4096-80CD-3F7E528D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6B41D-F0C0-42F2-86BD-B8D1B1BE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2AC7C-9BC3-4E30-8212-EDE92C2C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B3CC7-9351-47FA-B508-131DE2C3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C48F7-E515-4A01-9C6C-D2FB38C2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39CAE-BA9F-47E5-BA9E-B388F4EC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544C1-1678-40C3-A491-BEE124C0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F37-1C00-4D14-9CF3-B8802DA0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13D38-AECE-4E4D-86B9-0B423A92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FD9A8-29B4-482F-935A-56B25A20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3E079-BD66-4911-B2F7-E2D5292D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23429-B7ED-4415-AEFE-405BAB70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EFB9A-3E65-479A-9E35-5BB4E850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8BD78-C6C9-4419-A070-846573AB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5A950-95F6-4494-B51E-654B2D26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B324A-8C56-46B4-9499-2EE896DF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59BC5-3602-4FBE-AE6E-5F2E2F8F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05B61-135A-4472-9ED0-DA5C9A45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241C-E715-4F2D-8BB9-69811AB4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F09B5-F53D-42E4-AD62-3B6259B5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BA173-52F6-405F-84BB-66D2D802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2451E-93FF-4C79-AA70-AC9FD804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ECEED-1E43-4851-A298-2BF97979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EB55B-02EC-49DF-A52F-13AF66B1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586B9-5E37-4074-AD89-83367CFA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E4114-3053-4349-A1D3-D984AB9A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BB0C8-264D-4273-83B1-32640700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D7525-4EFF-41E0-BF4B-A3EB9E4B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E6D79-8730-4850-B7EF-A32196F2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6498-F272-48D6-A03C-F16574CC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4DBBE-06CE-4276-97CB-852B00B6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615FA-7601-4F38-8890-B9939D29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E05FB-DCD9-4DFA-8676-E2DBB64A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9734A-5C15-4C1F-88B8-3607B80F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8F20C-24A9-450D-A5B3-B07A42DC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4C9E8-1693-4A77-8494-93E7E3CF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8A40C-7D5F-4587-AD5A-C8505B12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EB162-4FD3-4D60-9803-B027F78E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1FA89-3410-4E59-95B5-531213AC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36DA9-EE63-4DC3-8EFE-F4D58CFB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CDE-9098-46E2-8257-39E297EC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26F97-6601-4959-B852-2FDC6631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66CED-42FA-4B6F-9836-833B307D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036DB-625D-475A-A893-818A3FAB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5BE07-513F-4491-B904-977981498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373A1-09C8-4AFF-9F6E-EB36FC0FA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33F12-4254-45FB-9BAC-DF9DA675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91969-1810-4711-B2C2-2DBFB7AD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38AA4-8A39-4B80-BA62-6511AE03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72E23-65A1-4B15-B93D-2DD015A6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2CE3D-9953-4BCE-ABB0-80391D2F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F53-7D7D-4DAA-A9E3-89C0F171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85961-D986-4D8B-8A7C-EDC48BA3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4BC6D-E724-41BE-B144-1ECE7CC0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56BF6-7737-4A5B-977C-DFDDBD96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AD1AD-FFD1-44A8-9298-31812214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C28EA-1334-4C4D-9CCF-71DDAB64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2BF23-06D2-459C-BC59-B628CEB0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51CE8-1C10-4404-955E-3B8A00A9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6F83F-1A8D-4422-A550-D7057024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EF8B4-9F36-4379-A429-5C43F136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282A4-BD8E-4AF9-8C6E-62D88430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905F-2800-4163-BCA2-69978C7C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BE7BD-7A9E-4239-A0B7-28405263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C8967-2906-47D1-9029-3F3BEAA7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BF120-C19D-4049-828A-65655E02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2A79B-988C-4A40-BD28-6BF70F3D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E82EF-14AB-457F-81A7-9E987BA4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F275B-9FD4-4610-BAC9-8A3D7700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6C923-5C26-40D4-849F-74D7C009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7C08A-22E9-4CAB-B904-9B90ACB9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3D455-33BE-493B-959D-FE56987F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E3F73-147C-495D-81BC-902E2E86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642C-BE5E-400A-8553-3D5ACFA7E09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EA80-B5F7-49A7-ADDF-0A586E56681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4B87-88DC-4555-8EB2-BB608E01C55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5F79-B2B2-4DF8-AB7D-2E87E51C2B3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FDAD-C8CF-4917-A81E-F9E6B04E874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FAAB-BEC1-4A8C-BA48-E316FEAAEAE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E945-0CFF-4A0D-883A-9370938F2EE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21E1-5E0C-4843-A51B-0DA4069FB7B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4A09-D27D-4F50-8AE0-301B91658F5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www.usmint.gov/kids/games/LewisClarkAdventure/" TargetMode="External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"/>
              </a:rPr>
              <a:t>By: younique ,upchurch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3" descr="clark.jpg"/>
          <p:cNvPicPr/>
          <p:nvPr/>
        </p:nvPicPr>
        <p:blipFill>
          <a:blip r:embed="rId2"/>
          <a:stretch/>
        </p:blipFill>
        <p:spPr>
          <a:xfrm>
            <a:off x="304920" y="152280"/>
            <a:ext cx="2806560" cy="22482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lewis.jpg"/>
          <p:cNvPicPr/>
          <p:nvPr/>
        </p:nvPicPr>
        <p:blipFill>
          <a:blip r:embed="rId3"/>
          <a:stretch/>
        </p:blipFill>
        <p:spPr>
          <a:xfrm>
            <a:off x="5486400" y="152280"/>
            <a:ext cx="2832120" cy="2121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4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http://www.usmint.gov/kids/games/LewisClarkAdventure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slow">
    <p:newsflash/>
    <p:sndAc>
      <p:stSnd>
        <p:snd r:embed="rId3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11" name="Content Placeholder 3" descr="untitled.bmp"/>
          <p:cNvPicPr/>
          <p:nvPr/>
        </p:nvPicPr>
        <p:blipFill>
          <a:blip r:embed="rId2"/>
          <a:stretch/>
        </p:blipFill>
        <p:spPr>
          <a:xfrm>
            <a:off x="609480" y="1371600"/>
            <a:ext cx="7848720" cy="5270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165240" y="450720"/>
            <a:ext cx="8832600" cy="981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at Lewis and Clark found a </a:t>
            </a:r>
            <a:r>
              <a:rPr b="1" lang="en-US" sz="3200" spc="-1" strike="noStrike">
                <a:solidFill>
                  <a:srgbClr val="404040"/>
                </a:solidFill>
                <a:latin typeface="Franklin Gothic Book"/>
              </a:rPr>
              <a:t>Black-Tailed Prairie Dog</a:t>
            </a:r>
            <a:r>
              <a:rPr b="0" lang="en-US" sz="3200" spc="-1" strike="noStrike">
                <a:solidFill>
                  <a:srgbClr val="40404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9" descr="Picture7.jpg"/>
          <p:cNvPicPr/>
          <p:nvPr/>
        </p:nvPicPr>
        <p:blipFill>
          <a:blip r:embed="rId2"/>
          <a:stretch/>
        </p:blipFill>
        <p:spPr>
          <a:xfrm>
            <a:off x="2514600" y="2895480"/>
            <a:ext cx="4851360" cy="3683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pic>
        <p:nvPicPr>
          <p:cNvPr id="416" name="Content Placeholder 3" descr="Picture9.jpg"/>
          <p:cNvPicPr/>
          <p:nvPr/>
        </p:nvPicPr>
        <p:blipFill>
          <a:blip r:embed="rId2"/>
          <a:stretch/>
        </p:blipFill>
        <p:spPr>
          <a:xfrm>
            <a:off x="2743200" y="1773360"/>
            <a:ext cx="3657600" cy="4089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pic>
        <p:nvPicPr>
          <p:cNvPr id="418" name="Content Placeholder 11" descr="Picture8.jpg"/>
          <p:cNvPicPr/>
          <p:nvPr/>
        </p:nvPicPr>
        <p:blipFill>
          <a:blip r:embed="rId2"/>
          <a:stretch/>
        </p:blipFill>
        <p:spPr>
          <a:xfrm>
            <a:off x="2222640" y="2230560"/>
            <a:ext cx="4851360" cy="3174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pic>
        <p:nvPicPr>
          <p:cNvPr id="420" name="Content Placeholder 5" descr="Picture10.jpg"/>
          <p:cNvPicPr/>
          <p:nvPr/>
        </p:nvPicPr>
        <p:blipFill>
          <a:blip r:embed="rId2"/>
          <a:stretch/>
        </p:blipFill>
        <p:spPr>
          <a:xfrm>
            <a:off x="2222640" y="2211480"/>
            <a:ext cx="4851360" cy="3213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2" name="Content Placeholder 3" descr="Picture2.jpg"/>
          <p:cNvPicPr/>
          <p:nvPr/>
        </p:nvPicPr>
        <p:blipFill>
          <a:blip r:embed="rId2"/>
          <a:stretch/>
        </p:blipFill>
        <p:spPr>
          <a:xfrm>
            <a:off x="2514600" y="25909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Content Placeholder 45" descr="Picture3.jpg"/>
          <p:cNvPicPr/>
          <p:nvPr/>
        </p:nvPicPr>
        <p:blipFill>
          <a:blip r:embed="rId1"/>
          <a:stretch/>
        </p:blipFill>
        <p:spPr>
          <a:xfrm>
            <a:off x="2955960" y="2219400"/>
            <a:ext cx="4487760" cy="4078080"/>
          </a:xfrm>
          <a:prstGeom prst="rect">
            <a:avLst/>
          </a:prstGeom>
          <a:ln w="0">
            <a:noFill/>
          </a:ln>
        </p:spPr>
      </p:pic>
      <p:pic>
        <p:nvPicPr>
          <p:cNvPr id="424" name="Title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pic>
        <p:nvPicPr>
          <p:cNvPr id="426" name="Content Placeholder 7" descr="Picture5.jpg"/>
          <p:cNvPicPr/>
          <p:nvPr/>
        </p:nvPicPr>
        <p:blipFill>
          <a:blip r:embed="rId2"/>
          <a:stretch/>
        </p:blipFill>
        <p:spPr>
          <a:xfrm>
            <a:off x="1143000" y="3124080"/>
            <a:ext cx="2124000" cy="2286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4" descr="Picture4.jpg"/>
          <p:cNvPicPr/>
          <p:nvPr/>
        </p:nvPicPr>
        <p:blipFill>
          <a:blip r:embed="rId3"/>
          <a:stretch/>
        </p:blipFill>
        <p:spPr>
          <a:xfrm>
            <a:off x="4724280" y="2819520"/>
            <a:ext cx="2624400" cy="2624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00:33:57Z</dcterms:created>
  <dc:creator>shavonnah.upchurch</dc:creator>
  <dc:description/>
  <dc:language>en-US</dc:language>
  <cp:lastModifiedBy>Shavonnah Upchurch</cp:lastModifiedBy>
  <dcterms:modified xsi:type="dcterms:W3CDTF">2008-05-21T01:13:58Z</dcterms:modified>
  <cp:revision>5</cp:revision>
  <dc:subject/>
  <dc:title>Lewis and Clark route</dc:title>
</cp:coreProperties>
</file>